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70684"/>
        <c:axId val="80816178"/>
      </c:barChart>
      <c:catAx>
        <c:axId val="37870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16178"/>
        <c:crosses val="autoZero"/>
        <c:auto val="1"/>
        <c:lblAlgn val="ctr"/>
        <c:lblOffset val="100"/>
        <c:noMultiLvlLbl val="0"/>
      </c:catAx>
      <c:valAx>
        <c:axId val="80816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0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229-D366-4621-A19F-48F27386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05D-2F9A-4A0F-AD96-045E87A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116-9959-4862-B674-7D6F485A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EB2-1D98-440A-ADA0-822D7660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BF1-6A62-45E3-A3BB-37A9B5FD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0F6-68C3-44DC-BFE6-6308728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A2C-4275-44A5-A3AB-9D15D427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E75-09A8-4F2B-BC34-94A15EF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B65-C933-49EA-861B-66682E39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327-FC1C-4D7B-9668-B0B89BF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193-47E7-4F7B-8362-815FAFFA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03B-2F32-4BBD-ABD4-BAE31CA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C6BA1-FEC6-4661-8F08-E7E530D80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