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4052"/>
        <c:axId val="74621422"/>
      </c:barChart>
      <c:catAx>
        <c:axId val="79534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1422"/>
        <c:crosses val="autoZero"/>
        <c:auto val="1"/>
        <c:lblAlgn val="ctr"/>
        <c:lblOffset val="100"/>
        <c:noMultiLvlLbl val="0"/>
      </c:catAx>
      <c:valAx>
        <c:axId val="74621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4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900-07D9-44C7-9197-74D14E4D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BF6-3AC5-4F8E-86EB-A6358F40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00E-C49A-4862-9A5F-41C419EA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6AF-9FAE-43E3-B599-C961761D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40F-4BE0-41AE-ABB3-91C4333A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57A-1EAD-4869-AD87-F370B7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765-A33B-4FB8-B872-D7D58F47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094-0CC6-4141-968D-2301D2F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93A-FA3D-4F77-B667-31AC6E5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13D-A490-4E45-9C19-9ADE0C2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9E9-F7F7-4A79-A304-E5EA5AF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A52-6D52-4617-B204-F26D9DFB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A89D-1311-4B69-8B72-04F7F2C4FC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